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  <p:custShowLst>
    <p:custShow name="20 min overview" id="0">
      <p:sldLst>
        <p:sld r:id="rId5"/>
      </p:sldLst>
    </p:custShow>
    <p:custShow name="Sales Presentation" id="1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6684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AE935C4-7826-43C9-897C-A4C88EC97B9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6993128-28DC-4F40-8A01-9966327C85E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B017A6-A003-4851-9305-3C47672E69F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2580BD3-D911-4858-BA83-40B3140F5AB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2764911-72CC-4179-9F35-97ABEC9E2F7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7AEB20F-88FA-4D26-8FC6-CABBA4396E4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4F7B3F1-BBA1-41F2-9CD7-80AAA428D2F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E0DEFAA-31E0-42B3-A473-550AF9D4254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C17B061-BB05-4674-BF3F-0268A3A1028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E71BDB4-76C3-49C2-96F7-5227244F54F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66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72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66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72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760" y="6607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90D9-2751-47AD-AEB0-D4CA4BE5D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105520" y="65530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828800" y="6478560"/>
            <a:ext cx="1143000" cy="3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60" y="6607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6B33-CB54-4DD5-A96B-D0743E85F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65530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828800" y="6478560"/>
            <a:ext cx="1143000" cy="379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3938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93800" indent="12600" algn="ctr"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136520" indent="12960" algn="ctr">
              <a:spcBef>
                <a:spcPts val="499"/>
              </a:spcBef>
              <a:buClr>
                <a:srgbClr val="ffcc66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479600" indent="12600" algn="ctr">
              <a:spcBef>
                <a:spcPts val="499"/>
              </a:spcBef>
              <a:buClr>
                <a:srgbClr val="ffcc66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479600" indent="1260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479600" indent="1260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karp@ai.sri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he Pathway Tools Software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and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BioCyc Database Collection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Peter D. Karp, Ph.D.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informatics Research Gro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RI Internation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pkarp@ai.sri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ttp://www.ai.sri.com/pkarp/talks/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coCyc.org, MetaCyc.org, Human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urvey Publication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Karp et al, 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Briefings in Bioinformatics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2010 11:40-79.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Signaling Pathway Editor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gnaling pathways use different visual conventions than metabolic pathway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ook and feel based of our tool based on CellDesigner, SBG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nual layou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n’t yet be included in Cellular Overview Diagra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Content Placeholder 4" descr="sigpwy-editor.png"/>
          <p:cNvPicPr/>
          <p:nvPr/>
        </p:nvPicPr>
        <p:blipFill>
          <a:blip r:embed="rId1"/>
          <a:srcRect l="0" t="-71549" r="0" b="-71549"/>
          <a:stretch/>
        </p:blipFill>
        <p:spPr>
          <a:xfrm>
            <a:off x="187200" y="-2560680"/>
            <a:ext cx="8956800" cy="1128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1" name="Content Placeholder 4" descr="MAP-kinase.png"/>
          <p:cNvPicPr/>
          <p:nvPr/>
        </p:nvPicPr>
        <p:blipFill>
          <a:blip r:embed="rId1"/>
          <a:srcRect l="-9085" t="0" r="-9085" b="0"/>
          <a:stretch/>
        </p:blipFill>
        <p:spPr>
          <a:xfrm>
            <a:off x="317520" y="243000"/>
            <a:ext cx="8413560" cy="6081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Improved Web Overview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mplemented using OpenLay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Zoomable, draggable, searchable, paintabl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ellular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ighlight compounds, reactions, enzymes, genes by name, substring, with autocomple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ighlight genes from fi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erimpose omics dat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ory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raw connections between a gene and its regulators, regulate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how full diagram or only highlighted ge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ellular Over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Content Placeholder 4" descr="web-cellov-full.png"/>
          <p:cNvPicPr/>
          <p:nvPr/>
        </p:nvPicPr>
        <p:blipFill>
          <a:blip r:embed="rId1"/>
          <a:srcRect l="0" t="-6142" r="0" b="-6142"/>
          <a:stretch/>
        </p:blipFill>
        <p:spPr>
          <a:xfrm>
            <a:off x="236520" y="831960"/>
            <a:ext cx="8823240" cy="549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ellular Overview, zoomed-in 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9" name="Content Placeholder 4" descr="web-cellov-zoomed.png"/>
          <p:cNvPicPr/>
          <p:nvPr/>
        </p:nvPicPr>
        <p:blipFill>
          <a:blip r:embed="rId1"/>
          <a:srcRect l="-6056" t="0" r="-6056" b="0"/>
          <a:stretch/>
        </p:blipFill>
        <p:spPr>
          <a:xfrm>
            <a:off x="343080" y="1003320"/>
            <a:ext cx="8610480" cy="545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gulatory Over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Content Placeholder 4" descr="web-regov.png"/>
          <p:cNvPicPr/>
          <p:nvPr/>
        </p:nvPicPr>
        <p:blipFill>
          <a:blip r:embed="rId1"/>
          <a:srcRect l="0" t="-3128" r="0" b="-3128"/>
          <a:stretch/>
        </p:blipFill>
        <p:spPr>
          <a:xfrm>
            <a:off x="131760" y="797040"/>
            <a:ext cx="9012240" cy="568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mics Popup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1325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ktop Pathway Tools onl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show omics popups for a gene, reaction,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 also in Cellular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oose from 3 styles: heatmap, bar graph, plo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Picture 8" descr="omics-popups.png"/>
          <p:cNvPicPr/>
          <p:nvPr/>
        </p:nvPicPr>
        <p:blipFill>
          <a:blip r:embed="rId1"/>
          <a:stretch/>
        </p:blipFill>
        <p:spPr>
          <a:xfrm>
            <a:off x="193680" y="3529080"/>
            <a:ext cx="895032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mics Data Graphing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991360" cy="674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Use Cases for Pathway Tools and BioCyc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velopment of organism-specific DBs (model-organism DBs) that span many biological datatyp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eb publishing of those DBs with a powerful set of query and visualization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utational inferences of metabolic pathways, pathway hole fillers, operons, transport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isual tools for analysis of omics da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ools for analysis of biological network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arative analysis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bolic engineer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 is a Web portal for genome and pathway inform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Captures All Bacterial Regulation Mechanism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transcrip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transcription facto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attenu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transl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proteins and small RNA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protein activ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covalent modification (e.g., phosphorylation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non-covalent modification (e.g., allosteric inhibitor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pport: Schema, editing tools, display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gulatory Summary Diagram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2" name="Content Placeholder 6" descr="reg-summary-trpD.png"/>
          <p:cNvPicPr/>
          <p:nvPr/>
        </p:nvPicPr>
        <p:blipFill>
          <a:blip r:embed="rId1"/>
          <a:srcRect l="0" t="-71846" r="0" b="-71846"/>
          <a:stretch/>
        </p:blipFill>
        <p:spPr>
          <a:xfrm>
            <a:off x="1914480" y="0"/>
            <a:ext cx="5221440" cy="3224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reg-summary-bglG.png"/>
          <p:cNvPicPr/>
          <p:nvPr/>
        </p:nvPicPr>
        <p:blipFill>
          <a:blip r:embed="rId2"/>
          <a:stretch/>
        </p:blipFill>
        <p:spPr>
          <a:xfrm>
            <a:off x="1320840" y="3886200"/>
            <a:ext cx="6175440" cy="1576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reg-summary-oppD.png"/>
          <p:cNvPicPr/>
          <p:nvPr/>
        </p:nvPicPr>
        <p:blipFill>
          <a:blip r:embed="rId3"/>
          <a:stretch/>
        </p:blipFill>
        <p:spPr>
          <a:xfrm>
            <a:off x="1569960" y="2365200"/>
            <a:ext cx="5926320" cy="1444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reg-summary-citD.png"/>
          <p:cNvPicPr/>
          <p:nvPr/>
        </p:nvPicPr>
        <p:blipFill>
          <a:blip r:embed="rId4"/>
          <a:stretch/>
        </p:blipFill>
        <p:spPr>
          <a:xfrm>
            <a:off x="257040" y="5532480"/>
            <a:ext cx="8610840" cy="132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ther Recent Enhancement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hases I and II of upgrade to Pathway Tools Web mod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hase III still to co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bility to customize pathway displays via Web site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thwa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Customiz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achability Analysis of Metabolic Network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iven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PGDB for an organis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set of initial metabolit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fer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hat set of products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n b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synthesized by the small-molecule metabolism of the organis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otivations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ality control for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Verify that a known growth medium yields known essential compound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eriment with other growth medi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eriment with reaction knock-ou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imit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not properly handle compounds required for their own synthesi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utrients needed for reachability may be a superset of those required for growth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77320" y="6324480"/>
            <a:ext cx="304560" cy="38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8381880" y="6477120"/>
            <a:ext cx="304920" cy="380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25360" y="6172200"/>
            <a:ext cx="70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omero and Karp,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acific Symposium on Biocomputing,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Algorithm: Forward Propagation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Through Production System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ach reaction becomes a production ru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ach of the 21 metabolites in the nutrient set becomes an axio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40600" y="2819520"/>
            <a:ext cx="7939080" cy="3694680"/>
            <a:chOff x="840600" y="2819520"/>
            <a:chExt cx="7939080" cy="3694680"/>
          </a:xfrm>
        </p:grpSpPr>
        <p:sp>
          <p:nvSpPr>
            <p:cNvPr id="156" name=""/>
            <p:cNvSpPr/>
            <p:nvPr/>
          </p:nvSpPr>
          <p:spPr>
            <a:xfrm>
              <a:off x="840600" y="2819520"/>
              <a:ext cx="124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utr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21080" y="4267440"/>
              <a:ext cx="158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tabol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o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30880" y="4235760"/>
              <a:ext cx="141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re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ac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579480" y="3313080"/>
              <a:ext cx="5200200" cy="2691000"/>
              <a:chOff x="3579480" y="3313080"/>
              <a:chExt cx="5200200" cy="2691000"/>
            </a:xfrm>
          </p:grpSpPr>
          <p:sp>
            <p:nvSpPr>
              <p:cNvPr id="160" name=""/>
              <p:cNvSpPr/>
              <p:nvPr/>
            </p:nvSpPr>
            <p:spPr>
              <a:xfrm flipH="1" flipV="1">
                <a:off x="3579120" y="3312720"/>
                <a:ext cx="4763160" cy="841320"/>
              </a:xfrm>
              <a:custGeom>
                <a:avLst/>
                <a:gdLst>
                  <a:gd name="textAreaLeft" fmla="*/ 833040 w 4763160"/>
                  <a:gd name="textAreaRight" fmla="*/ 3453120 w 4763160"/>
                  <a:gd name="textAreaTop" fmla="*/ 112680 h 841320"/>
                  <a:gd name="textAreaBottom" fmla="*/ 728640 h 84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017240" y="5162760"/>
                <a:ext cx="4762440" cy="841320"/>
              </a:xfrm>
              <a:custGeom>
                <a:avLst/>
                <a:gdLst>
                  <a:gd name="textAreaLeft" fmla="*/ 833400 w 4762440"/>
                  <a:gd name="textAreaRight" fmla="*/ 3452760 w 4762440"/>
                  <a:gd name="textAreaTop" fmla="*/ 112680 h 841320"/>
                  <a:gd name="textAreaBottom" fmla="*/ 728640 h 84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2053800">
              <a:off x="2034720" y="3628800"/>
              <a:ext cx="1333440" cy="708120"/>
            </a:xfrm>
            <a:prstGeom prst="rightArrow">
              <a:avLst>
                <a:gd name="adj1" fmla="val 50000"/>
                <a:gd name="adj2" fmla="val 4707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50200">
              <a:off x="1632240" y="414648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3800" y="284184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Produc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46160" y="611532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Reacta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75240" y="4092840"/>
              <a:ext cx="1465200" cy="11912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G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a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914400" y="1447920"/>
            <a:ext cx="8016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79440" y="2070000"/>
            <a:ext cx="5197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5486400"/>
            <a:ext cx="29718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432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+ B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-503280"/>
            <a:ext cx="10058400" cy="8256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oming Soon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 / EcoCyc / HumanCyc will support Web services for data retriev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Phone app for BioCyc / EcoCyc / HumanCyc and other PGDB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RI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uzanne Paley, Ron Caspi, Ingrid Keseler, Carol Fulcher, Markus Krummenacker, Alex Shearer, Tomer Altman, Joe Dale, Fred Gilham, Pallavi Kaip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coCyc Collabora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ulio Collado-Vides, Robert Gunsalus, Ian Paulse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etaCyc Collabora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ue Rhee, Peifen Zhang, Kate Dreh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ukas Mueller, Anuradha Puj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29200" y="1218960"/>
            <a:ext cx="3772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unding sources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IH National Institute of General Medical Scienc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IH National Center for Research Resourc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4572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849960" y="6019920"/>
            <a:ext cx="90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arn more from BioCyc webinars:  biocyc.org/webinar.s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BioCyc Collection of 673 Pathway/Genome Database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/Genome Database (PGDB) –  combines information about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s, reactions, substrat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nzymes, transport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enes, replic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 factors/sites, promoters, oper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1: Literature-Derived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eta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coCyc  --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scherichia coli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K-12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2: Computationally-derived DBs, Some Curation  --  28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Human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ycobacterium tuberculosi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3: Computationally-derived DBs, No Curation  --  643 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657440"/>
            <a:ext cx="441936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262160" y="609588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riefings in Bioinformatics 11:40-79 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btaining a PGDB for Organism of Interes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nd existing curated PGDB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nd existing PGDB in BioCy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reate your ow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rated pathway DBs now exist for most biomedical model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oftware: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GDBs Created Outside SRI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61976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2,100+ licensees: 180 groups applying software to 1,600 organisms 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accharomyces cerevisiae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, SGD project, Stanfo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135 pathways / 565 publicati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Candida albicans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CGD project, Stanfo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dictyBase, Northwestern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use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MGD, Jackson Laborator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FlyBase, Harva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nder development: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C. elegans,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WormBas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Arabidopsis thaliana,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AIR, Carnegie Institution of Washingt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288 pathways / 2282 publicati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PlantCyc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arnegie Institution of Washingt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Six 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Solanaceae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 species, Cornell University 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GrameneDB, Cold Spring Harbor Laborator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Medicago truncatula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Samuel Roberts Noble Foundati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MetaCyc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Meta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bolic En</a:t>
            </a: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cyc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lopedia</a:t>
            </a:r>
            <a:endParaRPr b="1" i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cribe a representative sample of every experimentally determined metabolic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cribe properties of metabolic enzy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iterature-based DB with extensive references and commentar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Cyc now assigns more than twice as many reactions to pathways as does KEG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38920" y="6019920"/>
            <a:ext cx="42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Nucleic Acids Research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MetaCyc Data  -- Version 14.0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905120" y="1447920"/>
          <a:ext cx="5130720" cy="41907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Pathw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,4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,4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Enzy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,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Small Molecu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,5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Organis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1,86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Cit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2,4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Taxonomic Distribution of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MetaCyc Pathways – version 13.1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5120" y="1447920"/>
          <a:ext cx="5130720" cy="35049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</a:tblGrid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Bacte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8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Green Pla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Fung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Mamm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Archa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1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9:30Z</dcterms:created>
  <dc:creator>Peter Karp</dc:creator>
  <dc:description/>
  <dc:language>en-US</dc:language>
  <cp:lastModifiedBy>GMOD / NESCent</cp:lastModifiedBy>
  <cp:lastPrinted>2000-01-10T21:27:38Z</cp:lastPrinted>
  <dcterms:modified xsi:type="dcterms:W3CDTF">2010-07-15T16:16:59Z</dcterms:modified>
  <cp:revision>1039</cp:revision>
  <dc:subject/>
  <dc:title>BioCyc</dc:title>
</cp:coreProperties>
</file>